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540-3833-4205-9114-20BC7A7C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2C4-0751-423E-B54B-07E2DADF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51D-B6E4-4720-A8DB-449F0465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E87-9570-489C-B6EA-4516E2F4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F65D-04E7-45E4-A68D-B2A1F9BC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4C3E-8AED-453D-B357-578864C6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2122-269B-44E9-8A6C-B7E79AAA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FC3F-DAD0-4100-A5B3-321F6B8E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0E15-6CA3-414C-8D6E-AF17EA2A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412F-F67C-428C-8E57-A0350083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B74C-2D7D-4DAB-BF7C-1F99B863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1F9-7C8F-4543-B2F5-811A6AC0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8D8B-4B58-4B34-86E8-10E0E31A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4B3D-5B61-4D53-ABC6-8CD3DF0E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6B5B-776A-434E-BAAF-5D188AB7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2674-228D-4919-896D-A124E1B4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B9E0-4BC1-4757-ADAD-4458A1D0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FBAD-39EC-4D5F-B34C-1477ACC4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8B3-2E7B-4DAD-BE70-A7A7B0C6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644-78DE-4407-99FF-8C9952CB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BFA-1732-4ECA-A88A-0960DADC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553-2302-46DE-B8B8-0E0D6FD0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32B-A14D-45C4-AD56-CBD72B46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B09-47B7-41FE-9DD0-537FFE36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0A87-93AF-4122-BC81-6F4393C15D4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953E-2B4E-4653-A66D-75621B6F633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llog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mal Reaso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nying the consequent—saying the “then” part did not occu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did not learn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did not go to schoo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wo (2) fallacies involv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nying the anteced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ffirming the conseq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enying the anteced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do not go to scho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will not learn any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Not necessarily!  One may learn out of schoo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ffirming the conseq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go to scho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Again, one may learn elsewher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junctive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Either-or”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llogis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ither you lik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tar War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tar Tre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lik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tar Wa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don’t lik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tar Tre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Formally valid, but can’t we like both?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mal correctness insufficient to gain adheren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ecise language essential to analyzing and appraising argum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ertainty cannot always be establishe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asoning does not always follow three-liner for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 Consul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arefsky, David. 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rgumentation: The Study of Effective Reasoning.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Edition. 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he Great Courses.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antilly, VA: The Teaching Company, 2005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irie, Madsen. 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How to Win Every Argument: The Use and Abuse of Logic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  London: Continuum, 2006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l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ncerned with “form” or structur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eed have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nothin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to do with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content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r fac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y use symbols (e.g.,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  <a:ea typeface="Arial"/>
              </a:rPr>
              <a:t>ζ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Arial"/>
              </a:rPr>
              <a:t>, Þ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lowing form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s mentioned above, formal logic doesn’t have to have anything to do with the real worl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alidity” is about form, not fac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.g.,</a:t>
            </a:r>
            <a:br>
              <a:rPr sz="2800"/>
            </a:b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ll heavenly bodies are made of mil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sun is a heavenly bo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sun is made of mil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ductive and Indu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duc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 new inform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clusions are certai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duc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ew inform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clusions are proba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ormal reasoning i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deduc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y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- together +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logo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reason, discour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tains three (3) par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jor premi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inor premi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ree (3) syllogistic types here considered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tegoric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dition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sjuncti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c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ll,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“None,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“Some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syllogis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und example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ll freshmen are lazy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ajor premis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n is a freshman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inor premis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n is lazy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onclusion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aulty examp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freshmen are laz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n is a freshma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n is lazy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maybe, maybe no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c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tter example of “some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ll girls like Jane Aust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students are girl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students like Jane Aust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An unfounded generalization?  You betch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But it’s formally correct.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If-then”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llogis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teced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sequent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.g.,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go to scho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will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firming the antecedent—saying the “if” condition did in fact occu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go to schoo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will learn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9:24:40Z</dcterms:created>
  <dc:creator>csclab</dc:creator>
  <dc:description/>
  <dc:language>en-US</dc:language>
  <cp:lastModifiedBy>csclab</cp:lastModifiedBy>
  <dcterms:modified xsi:type="dcterms:W3CDTF">2009-09-04T11:16:55Z</dcterms:modified>
  <cp:revision>13</cp:revision>
  <dc:subject/>
  <dc:title>Syllogisms</dc:title>
</cp:coreProperties>
</file>